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C591-26E0-427F-98CD-D4CC57F43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C72A-1F84-4FDF-8BB8-D079CE893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EFBB-84F1-449B-930C-FADD153FE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6794-7037-4315-B689-5EA711536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0370-5F53-46AB-9B23-CEB972A59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8810-0F08-412A-9B4A-8E3B23228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8949-6099-4282-B333-541627D34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2036-0896-49B8-BB5B-0DA3FE6BB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B32A-7702-485E-A3F7-8D7DEFE9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556E-9197-4B1B-A9D2-3D74D059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A843-C0B6-4C7B-A132-8922706C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2C12-2E1F-4758-BA11-EAE14A35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C335C-7347-4A43-9AF9-3CAEF32D0E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GPT ending 3 (SLD-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ccept our thanks and prais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good Fath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hrough your Son, our Redeeme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Jesus Chris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ith whom and in whom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by the Spirit who dwells in u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e worship you in joyful song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lessing and honour 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glory and p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re yours for ever and ever. 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00:10:19Z</dcterms:created>
  <dc:creator>Anon Anon</dc:creator>
  <dc:description/>
  <dc:language>en-US</dc:language>
  <cp:lastModifiedBy>Anon Anon</cp:lastModifiedBy>
  <dcterms:modified xsi:type="dcterms:W3CDTF">2005-08-09T05:23:49Z</dcterms:modified>
  <cp:revision>11</cp:revision>
  <dc:subject/>
  <dc:title>PowerPoint Presentation</dc:title>
</cp:coreProperties>
</file>